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EC83-4D0E-4EB1-A1C0-7E1978470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4D56-CED1-44F0-9687-B61625BA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D664-ABB2-43D8-BBEA-0E28E230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1B4E-732E-4D7D-846D-73A2ADF60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7B1C-1174-4C2D-86C4-990459B4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9D40-99D3-43D4-87A2-68E3C108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0199-CD31-4E69-908D-37ECD8C4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21C3-FF4B-4481-B9F4-7CDC51A1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9844-A7C2-4B92-9503-3FCABE18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1BB8-B2D0-413A-98FE-23A282AC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E544-F07E-44ED-B89F-AC1BD96F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71C7-D4D2-4EDD-A02E-F1EC0007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807D-FFA1-4CF9-91C0-F0B6C6E56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6:44:21Z</dcterms:created>
  <dc:creator>CFISD</dc:creator>
  <dc:description/>
  <dc:language>en-US</dc:language>
  <cp:lastModifiedBy>CFISD</cp:lastModifiedBy>
  <dcterms:modified xsi:type="dcterms:W3CDTF">2008-12-03T16:45:41Z</dcterms:modified>
  <cp:revision>1</cp:revision>
  <dc:subject/>
  <dc:title>Slide 1</dc:title>
</cp:coreProperties>
</file>